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DD55-626C-4AF2-92F4-9BC8199A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640080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682640" y="5403600"/>
            <a:ext cx="640080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A083B-D08A-4C81-8E22-1D42CC2B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8264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6260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1EE8-F9B7-40FD-A409-565F6118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46600" y="46080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0920" y="46080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682640" y="54036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846600" y="54036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0920" y="54036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A6D1-D793-4F18-AA74-B9DD6D1A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CCB59-08AD-4217-9A4F-1A40F3F4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82640" y="4608000"/>
            <a:ext cx="64008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FBA49-D9F4-4AE6-A29D-684A5B3B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64008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61EA0-3987-4D3E-BA51-EFDB4F3A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A9024-DD26-46AF-9D51-7EF841B3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26F70-75DB-4F20-A67E-6E28B5D4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6840" y="2509560"/>
            <a:ext cx="7772400" cy="81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495AD-06CA-42C5-B005-84C0116C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8264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E2415-0215-4DE2-A250-EC06C6DB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682640" y="4608000"/>
            <a:ext cx="64008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437A-D900-4120-AF07-D3CE2F0D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6260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411A1-CA7C-4ED8-89C6-77F09022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82640" y="5403600"/>
            <a:ext cx="640080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9764B-0A4D-43B4-8A45-DC27E073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640080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82640" y="5403600"/>
            <a:ext cx="640080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ABA60-5E12-4FA2-A7AA-B8E7FB46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8264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6260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1BD7B-1D62-4CF2-8351-E342E4A1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46600" y="46080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0920" y="46080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82640" y="54036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46600" y="54036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0920" y="5403600"/>
            <a:ext cx="206064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10B9B-4308-4B76-AAA5-5743F506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64008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C170-0492-4C26-AC57-A316EB7E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EBFE5-8B93-441E-A4DB-BF4D3F91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E878-D808-40A3-9EE7-86BF0F5E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96840" y="2509560"/>
            <a:ext cx="7772400" cy="81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189A-8AB6-4674-A34E-A9020E2D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8264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142F5-695F-417E-A717-F80B5E5A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62600" y="54036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CB75-6548-44EA-9325-5AD7EA5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8264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62600" y="4608000"/>
            <a:ext cx="312336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682640" y="5403600"/>
            <a:ext cx="6400800" cy="7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A136F-B38E-4D85-A74C-C266F195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3722760" y="1455840"/>
              <a:ext cx="5343480" cy="339480"/>
            </a:xfrm>
            <a:custGeom>
              <a:avLst/>
              <a:gdLst/>
              <a:ahLst/>
              <a:rect l="l" t="t" r="r" b="b"/>
              <a:pathLst>
                <a:path w="3366" h="276">
                  <a:moveTo>
                    <a:pt x="0" y="0"/>
                  </a:moveTo>
                  <a:cubicBezTo>
                    <a:pt x="1683" y="0"/>
                    <a:pt x="3366" y="0"/>
                    <a:pt x="3366" y="0"/>
                  </a:cubicBezTo>
                  <a:cubicBezTo>
                    <a:pt x="3366" y="0"/>
                    <a:pt x="3366" y="138"/>
                    <a:pt x="3366" y="276"/>
                  </a:cubicBezTo>
                  <a:cubicBezTo>
                    <a:pt x="1759" y="276"/>
                    <a:pt x="910" y="276"/>
                    <a:pt x="483" y="276"/>
                  </a:cubicBezTo>
                  <a:cubicBezTo>
                    <a:pt x="124" y="276"/>
                    <a:pt x="76" y="138"/>
                    <a:pt x="0" y="0"/>
                  </a:cubicBezTo>
                  <a:close/>
                </a:path>
              </a:pathLst>
            </a:cu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3200" y="41400"/>
              <a:ext cx="2432160" cy="1982520"/>
            </a:xfrm>
            <a:custGeom>
              <a:avLst/>
              <a:gdLst/>
              <a:ahLst/>
              <a:rect l="l" t="t" r="r" b="b"/>
              <a:pathLst>
                <a:path w="3272" h="3134">
                  <a:moveTo>
                    <a:pt x="2442" y="0"/>
                  </a:moveTo>
                  <a:cubicBezTo>
                    <a:pt x="3272" y="1973"/>
                    <a:pt x="1243" y="3134"/>
                    <a:pt x="3" y="2430"/>
                  </a:cubicBezTo>
                  <a:cubicBezTo>
                    <a:pt x="0" y="2271"/>
                    <a:pt x="3" y="390"/>
                    <a:pt x="3" y="0"/>
                  </a:cubicBezTo>
                  <a:cubicBezTo>
                    <a:pt x="519" y="0"/>
                    <a:pt x="1637" y="0"/>
                    <a:pt x="2442" y="0"/>
                  </a:cubicBezTo>
                  <a:close/>
                </a:path>
              </a:pathLst>
            </a:cu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090880" y="561960"/>
              <a:ext cx="7053120" cy="74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71b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449360"/>
              <a:ext cx="9144000" cy="235080"/>
            </a:xfrm>
            <a:prstGeom prst="rect">
              <a:avLst/>
            </a:pr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74880" y="638280"/>
              <a:ext cx="8169120" cy="8125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3200" y="66600"/>
              <a:ext cx="2281320" cy="1833480"/>
            </a:xfrm>
            <a:custGeom>
              <a:avLst/>
              <a:gdLst/>
              <a:ahLst/>
              <a:rect l="l" t="t" r="r" b="b"/>
              <a:pathLst>
                <a:path w="3272" h="3134">
                  <a:moveTo>
                    <a:pt x="2442" y="0"/>
                  </a:moveTo>
                  <a:cubicBezTo>
                    <a:pt x="3272" y="1973"/>
                    <a:pt x="1243" y="3134"/>
                    <a:pt x="3" y="2430"/>
                  </a:cubicBezTo>
                  <a:cubicBezTo>
                    <a:pt x="0" y="2271"/>
                    <a:pt x="3" y="390"/>
                    <a:pt x="3" y="0"/>
                  </a:cubicBezTo>
                  <a:cubicBezTo>
                    <a:pt x="519" y="0"/>
                    <a:pt x="1637" y="0"/>
                    <a:pt x="2442" y="0"/>
                  </a:cubicBezTo>
                  <a:close/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3800" y="122400"/>
              <a:ext cx="973080" cy="973080"/>
            </a:xfrm>
            <a:prstGeom prst="ellipse">
              <a:avLst/>
            </a:pr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87240" y="1447920"/>
              <a:ext cx="303480" cy="237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82680" y="1446120"/>
              <a:ext cx="306360" cy="238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3320" y="1446120"/>
              <a:ext cx="295200" cy="238320"/>
            </a:xfrm>
            <a:prstGeom prst="rect">
              <a:avLst/>
            </a:prstGeom>
            <a:solidFill>
              <a:srgbClr val="c3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3" name=""/>
              <p:cNvSpPr/>
              <p:nvPr/>
            </p:nvSpPr>
            <p:spPr>
              <a:xfrm>
                <a:off x="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05652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0800000">
                <a:off x="8440560" y="604836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1440"/>
                <a:ext cx="9144000" cy="7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783480"/>
                <a:ext cx="9144000" cy="74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V="1">
                <a:off x="0" y="605160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8440560" y="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ldNum" idx="2"/>
          </p:nvPr>
        </p:nvSpPr>
        <p:spPr>
          <a:xfrm>
            <a:off x="7097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BDEA-06C4-4BC5-B2CD-A37801B70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body"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title"/>
          </p:nvPr>
        </p:nvSpPr>
        <p:spPr>
          <a:xfrm>
            <a:off x="966600" y="444240"/>
            <a:ext cx="79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dt" idx="3"/>
          </p:nvPr>
        </p:nvSpPr>
        <p:spPr>
          <a:xfrm>
            <a:off x="96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3581280" y="4343400"/>
              <a:ext cx="556272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1b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11600" y="4259160"/>
              <a:ext cx="5343480" cy="339840"/>
            </a:xfrm>
            <a:custGeom>
              <a:avLst/>
              <a:gdLst/>
              <a:ahLst/>
              <a:rect l="l" t="t" r="r" b="b"/>
              <a:pathLst>
                <a:path w="3366" h="276">
                  <a:moveTo>
                    <a:pt x="0" y="0"/>
                  </a:moveTo>
                  <a:cubicBezTo>
                    <a:pt x="1683" y="0"/>
                    <a:pt x="3366" y="0"/>
                    <a:pt x="3366" y="0"/>
                  </a:cubicBezTo>
                  <a:cubicBezTo>
                    <a:pt x="3366" y="0"/>
                    <a:pt x="3366" y="138"/>
                    <a:pt x="3366" y="276"/>
                  </a:cubicBezTo>
                  <a:cubicBezTo>
                    <a:pt x="1759" y="276"/>
                    <a:pt x="910" y="276"/>
                    <a:pt x="483" y="276"/>
                  </a:cubicBezTo>
                  <a:cubicBezTo>
                    <a:pt x="124" y="276"/>
                    <a:pt x="76" y="138"/>
                    <a:pt x="0" y="0"/>
                  </a:cubicBezTo>
                  <a:close/>
                </a:path>
              </a:pathLst>
            </a:cu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362320"/>
              <a:ext cx="9144000" cy="1981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71b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4382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71b7b5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0"/>
              <a:ext cx="3584520" cy="3433680"/>
            </a:xfrm>
            <a:custGeom>
              <a:avLst/>
              <a:gdLst/>
              <a:ahLst/>
              <a:rect l="l" t="t" r="r" b="b"/>
              <a:pathLst>
                <a:path w="3272" h="3134">
                  <a:moveTo>
                    <a:pt x="2442" y="0"/>
                  </a:moveTo>
                  <a:cubicBezTo>
                    <a:pt x="3272" y="1973"/>
                    <a:pt x="1243" y="3134"/>
                    <a:pt x="3" y="2430"/>
                  </a:cubicBezTo>
                  <a:cubicBezTo>
                    <a:pt x="0" y="2271"/>
                    <a:pt x="3" y="390"/>
                    <a:pt x="3" y="0"/>
                  </a:cubicBezTo>
                  <a:cubicBezTo>
                    <a:pt x="519" y="0"/>
                    <a:pt x="1637" y="0"/>
                    <a:pt x="2442" y="0"/>
                  </a:cubicBezTo>
                  <a:close/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5000" y="130320"/>
              <a:ext cx="1743120" cy="1742760"/>
            </a:xfrm>
            <a:prstGeom prst="ellipse">
              <a:avLst/>
            </a:prstGeom>
            <a:solidFill>
              <a:srgbClr val="add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7240" y="4273560"/>
              <a:ext cx="303480" cy="237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680" y="4272120"/>
              <a:ext cx="306360" cy="2379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3320" y="4272120"/>
              <a:ext cx="295200" cy="237960"/>
            </a:xfrm>
            <a:prstGeom prst="rect">
              <a:avLst/>
            </a:prstGeom>
            <a:solidFill>
              <a:srgbClr val="c3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74" name=""/>
              <p:cNvSpPr/>
              <p:nvPr/>
            </p:nvSpPr>
            <p:spPr>
              <a:xfrm>
                <a:off x="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056520" y="0"/>
                <a:ext cx="8748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0800000">
                <a:off x="8440560" y="604836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1440"/>
                <a:ext cx="9144000" cy="7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6783480"/>
                <a:ext cx="9144000" cy="74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0" y="605160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8440560" y="0"/>
                <a:ext cx="703440" cy="806400"/>
              </a:xfrm>
              <a:custGeom>
                <a:avLst/>
                <a:gdLst/>
                <a:ahLst/>
                <a:rect l="l" t="t" r="r" b="b"/>
                <a:pathLst>
                  <a:path w="443" h="508">
                    <a:moveTo>
                      <a:pt x="2" y="508"/>
                    </a:moveTo>
                    <a:cubicBezTo>
                      <a:pt x="0" y="390"/>
                      <a:pt x="3" y="252"/>
                      <a:pt x="3" y="1"/>
                    </a:cubicBezTo>
                    <a:cubicBezTo>
                      <a:pt x="139" y="1"/>
                      <a:pt x="374" y="1"/>
                      <a:pt x="443" y="0"/>
                    </a:cubicBezTo>
                    <a:cubicBezTo>
                      <a:pt x="52" y="81"/>
                      <a:pt x="28" y="406"/>
                      <a:pt x="2" y="50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6840" y="250956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7097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48B1-B65B-4917-BB77-8AFF26D70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6"/>
          </p:nvPr>
        </p:nvSpPr>
        <p:spPr>
          <a:xfrm>
            <a:off x="96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21560" y="649800"/>
            <a:ext cx="868176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rm-up:  Find the circum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08000" y="16840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r = 3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d = 4.5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d = 138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r = 17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find perimeter, area and volume of rectangles and rectangular pr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79250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meter - The distance around the outside of a two-dimensional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124080"/>
            <a:ext cx="3886200" cy="1067040"/>
          </a:xfrm>
          <a:prstGeom prst="rect">
            <a:avLst/>
          </a:prstGeom>
          <a:solidFill>
            <a:srgbClr val="addb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9880" y="4419720"/>
            <a:ext cx="477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S + S + S +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meter of a rectangle:  P = 2l + 2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meter of a square:  P = 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find perimeter, area and volume of rectangles and rectangular pr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73976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:  The space covered by a shape (or square units it would take to cover a sh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3200400"/>
            <a:ext cx="1981440" cy="1295280"/>
          </a:xfrm>
          <a:prstGeom prst="rect">
            <a:avLst/>
          </a:prstGeom>
          <a:solidFill>
            <a:srgbClr val="addb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7520" y="457524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length x width (A= l x w)  (A = l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of a square:  A =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find perimeter, area and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1218960"/>
            <a:ext cx="739764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perimeter and area of each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2438280"/>
            <a:ext cx="4343400" cy="685800"/>
          </a:xfrm>
          <a:prstGeom prst="rect">
            <a:avLst/>
          </a:prstGeom>
          <a:solidFill>
            <a:srgbClr val="addb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5160" y="24987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0" y="3200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48880" y="2193840"/>
            <a:ext cx="14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2360" y="37638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4267080"/>
            <a:ext cx="1676520" cy="1524240"/>
          </a:xfrm>
          <a:prstGeom prst="rect">
            <a:avLst/>
          </a:prstGeom>
          <a:solidFill>
            <a:srgbClr val="addb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94760" y="47084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63080" y="3870360"/>
            <a:ext cx="14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find perimeter, area and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73976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olu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amount of space filling a 3 dimensional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48880" y="2360520"/>
            <a:ext cx="64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length x width x height     (can be in any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        or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4343400"/>
            <a:ext cx="914400" cy="1600200"/>
          </a:xfrm>
          <a:prstGeom prst="cube">
            <a:avLst>
              <a:gd name="adj" fmla="val 25000"/>
            </a:avLst>
          </a:prstGeom>
          <a:solidFill>
            <a:srgbClr val="addb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70880" y="38703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20040" y="4191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840" y="48006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42940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find perimeter, area and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82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missing dimen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= 6 cm.    W = 4 cm.    P = 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= 7 in.    W = ___ in.    P = 20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21 in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= __ ft.   W = 9 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P = 38 f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= 2 yds.  W = 3 yds.   H = 8 yd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=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3:51:05Z</dcterms:created>
  <dc:creator>Brian McGrath</dc:creator>
  <dc:description/>
  <dc:language>en-US</dc:language>
  <cp:lastModifiedBy>Brian McGrath</cp:lastModifiedBy>
  <dcterms:modified xsi:type="dcterms:W3CDTF">2010-02-23T03:52:03Z</dcterms:modified>
  <cp:revision>2</cp:revision>
  <dc:subject/>
  <dc:title>Warm-up:  Find the circumference</dc:title>
</cp:coreProperties>
</file>